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AB23-F0EA-4EBC-AEEF-5EB2DD96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730-3C20-42A4-A85B-186C75C3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AA5C-0504-4B54-9803-31D8F3D7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AF07-823E-47A6-971E-1C17CCB6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F85-1100-4495-87A4-DBF4B287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CD77-EC1D-4DBF-948F-D754A73F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B0CE-8147-4CF7-8E84-60D2A45D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7C0-50F9-4A61-8A69-BB154BB1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B7A9-DA34-4E2E-94F1-0B0CD3FC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F145-E48F-459B-9F58-1739CBF0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594E-218B-47DE-9951-94C3CC93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DF5E-D3C3-42E8-9BD1-B45E6187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CE9C5-E58B-46F7-A990-5AF035C541E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580000" cy="37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CÃO E O SEU D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79640" y="2519280"/>
            <a:ext cx="2700360" cy="3419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510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cão de um Hortelão chegou ao poço, e como em baixo viu sua figura, começou a afeiçoá-la; e tanto fez, e buliu, que caiu no poç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ndava o Cão meio afogado, e o Hortelão com dó dele desceu abaixo junto da água, para o tirar, e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3280" y="2603520"/>
            <a:ext cx="4425840" cy="331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o lhe pegasse, o Cão meteu os dentes no braço, e o atravess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3280" y="2778120"/>
            <a:ext cx="442584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3280" y="2479680"/>
            <a:ext cx="4425840" cy="3568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Hortelão o largou com a dor, e o Cão daí a pouco afogou-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1:31:38Z</dcterms:created>
  <dc:creator/>
  <dc:description/>
  <dc:language>en-US</dc:language>
  <cp:lastModifiedBy/>
  <dcterms:modified xsi:type="dcterms:W3CDTF">2010-11-25T22:25:41Z</dcterms:modified>
  <cp:revision>3</cp:revision>
  <dc:subject/>
  <dc:title/>
</cp:coreProperties>
</file>